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189-E171-4E52-9028-94AF9D9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0F3-C663-4F8C-B9BC-3479412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E02-A23F-4397-99ED-98D2FF97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B9E-8435-400C-BB79-3B48FFA8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CC2E-21E3-4BBC-AF8D-E76A4912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ACE8-627C-4C06-BD69-DB8CA963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6AB-D5BD-461F-928A-552E0215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6CD-6F1D-4E98-85C5-1DF94ECC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57E-CB81-45E6-9732-7A31D302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F25-7A44-48FC-B458-29C3B97A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89DD-5E93-4CBD-8A7B-14F78AE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673-DA04-475D-BFFC-E63DD9B6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B587-2C66-46F0-B8F6-811EDBA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89D-F7B5-4782-9726-5A79DEB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BD4-52C2-4B1F-B632-D3B6AE54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4D9B-A631-4981-B31D-A6B949D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B04-EF90-4391-8CB8-22957E5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075-9E49-47CD-AE0E-7B7FF28E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068-12B6-4B6B-8E2E-2DB05DB5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B0D-4217-4399-B562-832462AD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44A-81A3-46EE-A3CA-4E4B6BB8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62-10B2-46F3-8396-75E5591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44-1D74-4A92-A76F-25C161B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519-AC7B-4A5D-BFBF-2C5E89B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887-51BE-4FFA-B7EB-893050F4CA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049-BC46-427E-8EA3-4B223E665F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hapter 7A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ing News Sto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few things to avoid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A.M. in the morning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h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oid clichés like you avoid the plag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worry about repeating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sive Vo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e in the active voice as much as possi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ways reme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reasonable and prudent, not arbitrary or capriciou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uilding on the Le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follows the lead is the next most important part of the st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has to be g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otes add a personal touch to the wri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will want to have someone’s voice in the article immediat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ay also trans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examples on p. 154-15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ody of the Sto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aboration takes place h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pand upon the lead and second paragrap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telling the story in more detail occurs h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e sure to continue to tie everything togeth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you move along, the information should become less and less detailed as well as less and less importa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Y?  So the editor can simply lob off the e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 at the example on p. 15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ther Organizational Pattern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ytelling style – narrativ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non-print journa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example on p. 15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bination style – combining inverted pyramid with story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for action sto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debar – story related to another story on the page but told different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ppropriate Newspaper Sty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 number of rules you must follow – use the style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copies of the Associated Press Stylebook as well as our own O’Gorman style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void Offensive Languag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politically correct termin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thing that might seem to be in poor taste usually 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lang term for religious belie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ch out for b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show favoritism to the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ren’t writing a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exist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Be succinc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clear and concise ways of expressing your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clear, simple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the list on p. 1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Jargo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side language of grou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jargon is okay, but don’t go to extre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raightforward Senten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idea, one sent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paragraphs, short sente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urnalistic paragraphs should be 2-3 sent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y away from semicol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07:30Z</dcterms:created>
  <dc:creator>jvanengen</dc:creator>
  <dc:description/>
  <dc:language>en-US</dc:language>
  <cp:lastModifiedBy>jvanengen</cp:lastModifiedBy>
  <dcterms:modified xsi:type="dcterms:W3CDTF">2009-07-23T20:25:12Z</dcterms:modified>
  <cp:revision>4</cp:revision>
  <dc:subject/>
  <dc:title>Chapter 7A</dc:title>
</cp:coreProperties>
</file>